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CAMERA.WAV" ContentType="audio/x-wav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9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3DE8A-9119-4EEB-AA08-20B01F524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19CB4-E4CA-40E7-A5E9-ADFF83E31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5C0B2-5B28-4619-BE86-77626CF3E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4C0D8-BFFC-4156-8E73-0E114E8C2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A3A26-34CB-4BEC-B227-0DCA9D68D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CB464-2FCD-452D-9272-8BBE1B22A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8E38F-CB58-468F-9ACD-1CB3FBCFE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595AE-B339-4B98-A4FA-8E6BCA9FD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34699-BE0F-45D4-B9BB-5500779D5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33310-CB83-4912-8A03-8D0265CB5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0337C-A722-41C9-A450-DC8919F1C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23CAE-6621-4F22-BEB0-9112DAAF5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C0D9A-7B80-40ED-945F-42D67F4EB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D1B7F-E1F6-495D-9C1C-67CC9E02E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DBF1A-242D-40AA-B4FE-52E1796EA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AC502-B285-4A9A-A838-E5A6BD0B6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A0B30-F93C-429B-A033-76B858B9B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A1D45-E6B0-460E-8717-F21B446F9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8148A-692B-43AC-9155-E327980D0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75F4B-C115-46B9-B8F4-A065CA12D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C2597-1DCB-460D-B55E-E7A6658C5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A0C71-E126-49EE-80F6-138D90060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381E2-47A9-4573-B0AF-41C1898D3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53000-4EE2-45AC-B53B-A9AD257CF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oleObject" Target="../embeddings/oleObject1.bin"/><Relationship Id="rId5" Type="http://schemas.openxmlformats.org/officeDocument/2006/relationships/hyperlink" Target="mailto:hinman@sandiego.edu?subject=PowerPoint%20Presentation" TargetMode="External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c1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9c1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a50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0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9c1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a3dc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29836-169C-4C49-B9D8-C987E6EC5E2F}" type="datetime">
              <a:rPr b="1" lang="en-US" sz="1400" spc="-1" strike="noStrike">
                <a:solidFill>
                  <a:srgbClr val="003366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A2B66-BCAB-4219-AE34-E7923621961F}" type="slidenum">
              <a:rPr b="1" lang="en-US" sz="14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c1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9c1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a50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0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9c1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352680" y="609480"/>
            <a:ext cx="5592960" cy="18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63945-B884-41A4-B3FD-6529D9458998}" type="datetime">
              <a:rPr b="1" lang="en-US" sz="1400" spc="-1" strike="noStrike">
                <a:solidFill>
                  <a:srgbClr val="003366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D8870-4465-421D-B0C6-A724DFF254F8}" type="slidenum">
              <a:rPr b="1" lang="en-US" sz="14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743200" y="4983120"/>
            <a:ext cx="61722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Lawrence M. Hinman, Ph.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Director, The Values Institu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457200" y="3733920"/>
            <a:ext cx="1270080" cy="14475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52760" cy="165096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-252360" y="5257800"/>
            <a:ext cx="490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UnivrstyRoman Bd BT"/>
              </a:rPr>
              <a:t>University of San Dieg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8305920" y="5486400"/>
          <a:ext cx="457200" cy="457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6" name="" descr="">
                    <a:hlinkClick r:id="rId5"/>
                  </p:cNvPr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305920" y="5486400"/>
                    <a:ext cx="45720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" name=""/>
          <p:cNvSpPr/>
          <p:nvPr/>
        </p:nvSpPr>
        <p:spPr>
          <a:xfrm>
            <a:off x="3352680" y="3078000"/>
            <a:ext cx="5592960" cy="18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a3dc2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a3dc2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cc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66cc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352680" y="609480"/>
            <a:ext cx="5592960" cy="18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Arial"/>
              </a:rPr>
              <a:t>Basic Ethics </a:t>
            </a:r>
            <a:br>
              <a:rPr sz="4400"/>
            </a:br>
            <a:r>
              <a:rPr b="1" lang="en-US" sz="4400" spc="-1" strike="noStrike">
                <a:solidFill>
                  <a:srgbClr val="a50021"/>
                </a:solidFill>
                <a:latin typeface="Arial"/>
              </a:rPr>
              <a:t>Overview</a:t>
            </a:r>
            <a:endParaRPr b="1" lang="en-US" sz="4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(c) Lawrence M. Hinman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FA41A-2D5A-4512-81AC-BED1CB2917A1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D6BD8FFC-B94F-4E58-9A79-F276BAA3C74B}" type="datetime1">
              <a:rPr lang="en-US"/>
              <a:t>07/31/26</a:t>
            </a:fld>
          </a:p>
        </p:txBody>
      </p:sp>
    </p:spTree>
  </p:cSld>
  <p:transition>
    <p:split dir="out" orient="vert"/>
    <p:sndAc>
      <p:stSnd>
        <p:snd r:embed="rId1" name="CAMERA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Ethics of Justice</a:t>
            </a:r>
            <a:br>
              <a:rPr sz="3000"/>
            </a:br>
            <a:endParaRPr b="1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72880" y="1219320"/>
            <a:ext cx="38098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Following the rules laws and seeking consequences for those who do not.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The idea of reparation and making up for past mistakes.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5452920" y="2006640"/>
            <a:ext cx="3175200" cy="4064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Lawrence M. Hinma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7669A-8515-4CD2-9643-4292E73805F7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20B097-52FF-45CA-B5FD-6553E7E1CC3F}" type="datetime1">
              <a:rPr lang="en-US"/>
              <a:t>07/31/26</a:t>
            </a:fld>
          </a:p>
        </p:txBody>
      </p:sp>
    </p:spTree>
  </p:cSld>
  <p:transition>
    <p:split dir="out" orient="vert"/>
    <p:sndAc>
      <p:stSnd>
        <p:snd r:embed="rId2" name="CAMERA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Arial"/>
              </a:rPr>
              <a:t>Ethics of Virtue</a:t>
            </a:r>
            <a:endParaRPr b="1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218960" y="1066680"/>
            <a:ext cx="5105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Decisions are analyzed by whether they show that you, as an individual, are trying to be the very best person you can be.  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Assumes good persons will make good decisions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6400800" y="2286000"/>
            <a:ext cx="2136600" cy="2590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Lawrence M. Hinma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F120F-2808-4AE1-B672-D5322B92708A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43164A-0371-419D-B20B-50799F5E2E41}" type="datetime1">
              <a:rPr lang="en-US"/>
              <a:t>07/31/26</a:t>
            </a:fld>
          </a:p>
        </p:txBody>
      </p:sp>
    </p:spTree>
  </p:cSld>
  <p:transition>
    <p:split dir="out" orient="vert"/>
    <p:sndAc>
      <p:stSnd>
        <p:snd r:embed="rId2" name="CAMERA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hich of these ethics do you use to make decisions?</a:t>
            </a: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  </a:t>
            </a:r>
            <a:endParaRPr b="1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1173240" y="1981080"/>
          <a:ext cx="7665840" cy="4273560"/>
        </p:xfrm>
        <a:graphic>
          <a:graphicData uri="http://schemas.openxmlformats.org/drawingml/2006/table">
            <a:tbl>
              <a:tblPr/>
              <a:tblGrid>
                <a:gridCol w="4160880"/>
                <a:gridCol w="1295280"/>
                <a:gridCol w="1143000"/>
                <a:gridCol w="10666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wa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metim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v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thics of Reli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thics of Conscien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thics of Egotis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thics of Du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thics of Respect for Individual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thics of Human Righ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thics of Servi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thics of Justi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thics of Virt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Lawrence M. Hinman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05F55-5653-4AE0-B41F-10A1D402DAEE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E84BC5-2887-45AD-ADFB-BC58F9B2C1E0}" type="datetime1">
              <a:rPr lang="en-US"/>
              <a:t>07/31/26</a:t>
            </a:fld>
          </a:p>
        </p:txBody>
      </p:sp>
    </p:spTree>
  </p:cSld>
  <p:transition>
    <p:split dir="out" orient="vert"/>
    <p:sndAc>
      <p:stSnd>
        <p:snd r:embed="rId1" name="CAMERA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Arial"/>
              </a:rPr>
              <a:t>Quickwrite</a:t>
            </a:r>
            <a:endParaRPr b="1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	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Which type of ethics do you think is the most important?  Why?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When finished, you will read your quickwrite to a partner.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Lawrence M. Hinma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DE5B8-DF1A-45CB-B664-D83E300F4C38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FEA4C3-0E4A-47EC-9D58-5D6ECD879E6A}" type="datetime1">
              <a:rPr lang="en-US"/>
              <a:t>07/31/26</a:t>
            </a:fld>
          </a:p>
        </p:txBody>
      </p:sp>
    </p:spTree>
  </p:cSld>
  <p:transition>
    <p:split dir="out" orient="vert"/>
    <p:sndAc>
      <p:stSnd>
        <p:snd r:embed="rId1" name="CAMERA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151920"/>
            <a:ext cx="8564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On what basis do we make moral decisions?</a:t>
            </a:r>
            <a:endParaRPr b="1" lang="en-US" sz="2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31680" y="838080"/>
            <a:ext cx="82882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Ethics of Religion-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Making decisions based on religious teachings and texts.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Ethics of Conscience-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What do you think and feel is right?  Do you feel good about it or guilty?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Ethics of  Egoism-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Choosing only what is right for you. 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Ethics of Duty-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Fulfilling the expectations of a role 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Ethics of Respect of Others-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The Golden Rule 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Ethics of Human Rights-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Decision making based in the belief that all people have inalienable rights.  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Ethics of Service-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Doing good for others and your community 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Ethics of Justice-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Following rules and the law 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Ethics of Virtue-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Striving to perfect yourself in every way. 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Lawrence M. Hinma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FB5B4-A3DB-429F-95A9-3B87367316CB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8FE884-13A6-4AB4-A302-1ECF3959A6C6}" type="datetime1">
              <a:rPr lang="en-US"/>
              <a:t>07/31/26</a:t>
            </a:fld>
          </a:p>
        </p:txBody>
      </p:sp>
    </p:spTree>
  </p:cSld>
  <p:transition>
    <p:split dir="out" orient="vert"/>
    <p:sndAc>
      <p:stSnd>
        <p:snd r:embed="rId1" name="CAMERA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Arial"/>
              </a:rPr>
              <a:t>Ethics of Religion</a:t>
            </a:r>
            <a:endParaRPr b="1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72880" y="1828800"/>
            <a:ext cx="576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Being good is equivalent to doing whatever the Bible--or the Qur’an or some other sacred text or source of revelation--tells you to do.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What is right” equals “What God tells me to do.”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rcRect l="0" t="0" r="0" b="17457"/>
          <a:stretch/>
        </p:blipFill>
        <p:spPr>
          <a:xfrm>
            <a:off x="6781680" y="3429000"/>
            <a:ext cx="1733760" cy="863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Lawrence M. Hinma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984D8-A466-4E7E-82DF-AF43A88616D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DFDF67-50F3-4A2A-86BE-4D17F07D543C}" type="datetime1">
              <a:rPr lang="en-US"/>
              <a:t>07/31/26</a:t>
            </a:fld>
          </a:p>
        </p:txBody>
      </p:sp>
    </p:spTree>
  </p:cSld>
  <p:transition>
    <p:split dir="out" orient="vert"/>
    <p:sndAc>
      <p:stSnd>
        <p:snd r:embed="rId2" name="CAMERA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80264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a50021"/>
                </a:solidFill>
                <a:latin typeface="Arial"/>
              </a:rPr>
              <a:t>Ethics of Our Own Conscience</a:t>
            </a:r>
            <a:br>
              <a:rPr sz="4000"/>
            </a:br>
            <a:endParaRPr b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Conscience tells us what is right or wrong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Do you feel good about the choice or do you feel guilty?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Founded on an optimistic view of human nature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Characterized by clear distinctions between what is right and what is wrong.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Lawrence M. Hinma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F7A62-5695-43F0-B35E-E16322A628F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0FE7B8-F7C9-48CF-B4E5-D5D216DFA47B}" type="datetime1">
              <a:rPr lang="en-US"/>
              <a:t>07/31/26</a:t>
            </a:fld>
          </a:p>
        </p:txBody>
      </p:sp>
    </p:spTree>
  </p:cSld>
  <p:transition>
    <p:split dir="out" orient="vert"/>
    <p:sndAc>
      <p:stSnd>
        <p:snd r:embed="rId1" name="CAMERA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a50021"/>
                </a:solidFill>
                <a:latin typeface="Arial"/>
              </a:rPr>
              <a:t>Ethics of Egotism</a:t>
            </a:r>
            <a:endParaRPr b="1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828440" y="1905120"/>
            <a:ext cx="6553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Decision making through evaluating your own self-interest.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Consequences for others is not important or of little importance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Make decisions based only on what is good for yourself without taking anything else into consideration.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Lawrence M. Hinma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B621D-833E-40BA-8704-B9A8AB7743F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27BE0A-1FB8-4150-9637-264FE8FD2217}" type="datetime1">
              <a:rPr lang="en-US"/>
              <a:t>07/31/26</a:t>
            </a:fld>
          </a:p>
        </p:txBody>
      </p:sp>
    </p:spTree>
  </p:cSld>
  <p:transition>
    <p:split dir="out" orient="vert"/>
    <p:sndAc>
      <p:stSnd>
        <p:snd r:embed="rId1" name="CAMERA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Arial"/>
              </a:rPr>
              <a:t>Ethics of Duty</a:t>
            </a:r>
            <a:endParaRPr b="1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90360" y="1371600"/>
            <a:ext cx="38098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Making decisions based on the role you play in society.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Duty may be determined by: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a3dc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a3dc2"/>
                </a:solidFill>
                <a:latin typeface="Arial"/>
              </a:rPr>
              <a:t>Professional role</a:t>
            </a:r>
            <a:endParaRPr b="1" lang="en-US" sz="2000" spc="-1" strike="noStrike">
              <a:solidFill>
                <a:srgbClr val="3a3dc2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3366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cc"/>
                </a:solidFill>
                <a:latin typeface="Arial"/>
              </a:rPr>
              <a:t>A physician’s duty to care for the sick</a:t>
            </a:r>
            <a:endParaRPr b="1" lang="en-US" sz="1800" spc="-1" strike="noStrike">
              <a:solidFill>
                <a:srgbClr val="3366cc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3366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cc"/>
                </a:solidFill>
                <a:latin typeface="Arial"/>
              </a:rPr>
              <a:t>A soldier’s duty to fight for his/her country</a:t>
            </a:r>
            <a:endParaRPr b="1" lang="en-US" sz="1800" spc="-1" strike="noStrike">
              <a:solidFill>
                <a:srgbClr val="3366cc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a3dc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a3dc2"/>
                </a:solidFill>
                <a:latin typeface="Arial"/>
              </a:rPr>
              <a:t>Social role</a:t>
            </a:r>
            <a:endParaRPr b="1" lang="en-US" sz="2000" spc="-1" strike="noStrike">
              <a:solidFill>
                <a:srgbClr val="3a3dc2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3366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cc"/>
                </a:solidFill>
                <a:latin typeface="Arial"/>
              </a:rPr>
              <a:t>A parent’s duty to care for his or her children</a:t>
            </a:r>
            <a:endParaRPr b="1" lang="en-US" sz="1800" spc="-1" strike="noStrike">
              <a:solidFill>
                <a:srgbClr val="3366cc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403960" y="1981080"/>
            <a:ext cx="3054240" cy="3533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Lawrence M. Hinma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B2754-B0C1-4388-A239-F5ED2A8B0A8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1474D2-9B27-450C-85CB-FBD826A837DD}" type="datetime1">
              <a:rPr lang="en-US"/>
              <a:t>07/31/26</a:t>
            </a:fld>
          </a:p>
        </p:txBody>
      </p:sp>
    </p:spTree>
  </p:cSld>
  <p:transition>
    <p:split dir="out" orient="vert"/>
    <p:sndAc>
      <p:stSnd>
        <p:snd r:embed="rId2" name="CAMERA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a50021"/>
                </a:solidFill>
                <a:latin typeface="Arial"/>
              </a:rPr>
              <a:t>Ethics of Respect of the Individual</a:t>
            </a:r>
            <a:endParaRPr b="1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7324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Human interactions should be governed by rules of respect.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The way respect is shown can vary from culture to culture.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Does your decision earn you respect?  Is your decision respecting others?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The Golden Rule”: Do unto others as you would have them do unto you.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Lawrence M. Hinma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80FFE-C402-422F-86AC-DA2F7042E67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985555-40D8-4156-BF28-0B04FA41BAEC}" type="datetime1">
              <a:rPr lang="en-US"/>
              <a:t>07/31/26</a:t>
            </a:fld>
          </a:p>
        </p:txBody>
      </p:sp>
    </p:spTree>
  </p:cSld>
  <p:transition>
    <p:split dir="out" orient="vert"/>
    <p:sndAc>
      <p:stSnd>
        <p:snd r:embed="rId1" name="CAMERA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Ethics of Human Rights</a:t>
            </a:r>
            <a:endParaRPr b="1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72880" y="13716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Decisions are made by weighing whether the decision affects yours or anyone else’s inalienable rights.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Established minimal conditions of human decency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All men [women] are created equal.”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2" name="" descr="Image of the Bill of Rights"/>
          <p:cNvPicPr/>
          <p:nvPr/>
        </p:nvPicPr>
        <p:blipFill>
          <a:blip r:embed="rId1"/>
          <a:stretch/>
        </p:blipFill>
        <p:spPr>
          <a:xfrm>
            <a:off x="5659560" y="2514600"/>
            <a:ext cx="2762280" cy="3048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Lawrence M. Hinma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991A6-1730-4AC7-9096-259C743F2363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53D381-72A2-4BA8-B2A9-F633E194732B}" type="datetime1">
              <a:rPr lang="en-US"/>
              <a:t>07/31/26</a:t>
            </a:fld>
          </a:p>
        </p:txBody>
      </p:sp>
    </p:spTree>
  </p:cSld>
  <p:transition>
    <p:split dir="out" orient="vert"/>
    <p:sndAc>
      <p:stSnd>
        <p:snd r:embed="rId2" name="CAMERA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a50021"/>
                </a:solidFill>
                <a:latin typeface="Arial"/>
              </a:rPr>
              <a:t>Ethics of Service</a:t>
            </a:r>
            <a:endParaRPr b="1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580920" y="1828800"/>
            <a:ext cx="4496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Decisions are made by evaluation of whether it will help someone or the community have a better life.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1" lang="en-US" sz="2500" spc="-1" strike="noStrike">
                <a:solidFill>
                  <a:srgbClr val="003366"/>
                </a:solidFill>
                <a:latin typeface="Arial"/>
              </a:rPr>
              <a:t>Make the world a better place”</a:t>
            </a:r>
            <a:endParaRPr b="1" lang="en-US" sz="25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Demands a high degree of self-sacrifice—we must consider the consequences for everyone.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1371600" y="1447920"/>
            <a:ext cx="1533600" cy="1904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Lawrence M. Hinma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880C6-395E-421C-9B26-8ECA9C34D9FF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EB3D96-0107-4360-961F-4A75A666E0F0}" type="datetime1">
              <a:rPr lang="en-US"/>
              <a:t>07/31/26</a:t>
            </a:fld>
          </a:p>
        </p:txBody>
      </p:sp>
    </p:spTree>
  </p:cSld>
  <p:transition>
    <p:split dir="out" orient="vert"/>
    <p:sndAc>
      <p:stSnd>
        <p:snd r:embed="rId2" name="CAMERA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2-14T00:19:29Z</dcterms:created>
  <dc:creator>Lawrence M. Hinman</dc:creator>
  <dc:description/>
  <dc:language>en-US</dc:language>
  <cp:lastModifiedBy>Administrator</cp:lastModifiedBy>
  <cp:lastPrinted>1998-02-15T18:04:34Z</cp:lastPrinted>
  <dcterms:modified xsi:type="dcterms:W3CDTF">2008-06-12T23:37:09Z</dcterms:modified>
  <cp:revision>46</cp:revision>
  <dc:subject>Basic moral orientations</dc:subject>
  <dc:title>Basic Moral Orientations Overview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1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ethics.acusd.edu/theory/</vt:lpwstr>
  </property>
  <property fmtid="{D5CDD505-2E9C-101B-9397-08002B2CF9AE}" pid="9" name="LinkColor">
    <vt:r8>16711782</vt:r8>
  </property>
  <property fmtid="{D5CDD505-2E9C-101B-9397-08002B2CF9AE}" pid="10" name="MailAddress">
    <vt:lpwstr>hinman@acusd.edu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wwwroot2\theory\Intro</vt:lpwstr>
  </property>
  <property fmtid="{D5CDD505-2E9C-101B-9397-08002B2CF9AE}" pid="14" name="ScreenSize">
    <vt:r8>1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